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4FB-A0E7-4975-8074-4AAB81BC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8C1-9185-4611-B6FC-6B5F454D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A0C-CC81-432F-9D7E-2A0DF4B4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2BD-762F-40A5-BFFF-AB08190D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B3E-5DCE-45FD-8D6E-ED15842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BDA-24FF-47E6-AABE-80C30B6E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868-603C-4E58-B9CE-AADA4B8B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CC0-12A7-492B-8B13-02175AE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14A-BEAF-4541-84AE-2589165B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460-99DB-4F98-AD4D-7947AC4A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8B1-5632-4033-A6E1-D3CC04E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2CF-D4CC-4C30-8E49-FF2501E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A75B-8DFD-429C-907B-F78C798E9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282240"/>
            <a:ext cx="88297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versity Bioinformatic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2320" y="2419200"/>
            <a:ext cx="730728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ry Cassteve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Meeting at N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ham, NC – June 29-30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://www.maizegenetics.net/gdpdm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s://sourceforge.net/projects/gdpdm</a:t>
            </a:r>
            <a:endParaRPr b="0" lang="en-US" sz="41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Diversity Schema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Connecti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C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2320" y="2952720"/>
            <a:ext cx="73072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, 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3360"/>
            <a:ext cx="7772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GDPC Purpo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0240" y="960480"/>
            <a:ext cx="73263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pose of GDPC is to simplify access to the large genomic and phenotypic datasets that are becoming available in plant biolog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95360" y="2670120"/>
            <a:ext cx="1708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13320" y="2670120"/>
            <a:ext cx="290988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Vi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3240" y="2670120"/>
            <a:ext cx="94464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1" idx="3"/>
            <a:endCxn id="72" idx="1"/>
          </p:cNvCxnSpPr>
          <p:nvPr/>
        </p:nvCxnSpPr>
        <p:spPr>
          <a:xfrm>
            <a:off x="7422840" y="3333240"/>
            <a:ext cx="500760" cy="10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4" name=""/>
          <p:cNvSpPr/>
          <p:nvPr/>
        </p:nvSpPr>
        <p:spPr>
          <a:xfrm>
            <a:off x="2790720" y="2676600"/>
            <a:ext cx="121932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0" idx="3"/>
            <a:endCxn id="74" idx="1"/>
          </p:cNvCxnSpPr>
          <p:nvPr/>
        </p:nvCxnSpPr>
        <p:spPr>
          <a:xfrm>
            <a:off x="2203200" y="3333600"/>
            <a:ext cx="58788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cxnSp>
        <p:nvCxnSpPr>
          <p:cNvPr id="76" name=""/>
          <p:cNvCxnSpPr>
            <a:stCxn id="74" idx="3"/>
            <a:endCxn id="71" idx="1"/>
          </p:cNvCxnSpPr>
          <p:nvPr/>
        </p:nvCxnSpPr>
        <p:spPr>
          <a:xfrm flipV="1">
            <a:off x="4010040" y="3333240"/>
            <a:ext cx="50400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7" name=""/>
          <p:cNvSpPr/>
          <p:nvPr/>
        </p:nvSpPr>
        <p:spPr>
          <a:xfrm>
            <a:off x="465120" y="249120"/>
            <a:ext cx="82393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ata Flow via GDP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1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atabas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2080" y="809640"/>
            <a:ext cx="86151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mene Diversity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nzea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a Database (Germinate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ztec (private GDPD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IN (passport dat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2320" y="586728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/gdp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gdpc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670880" y="5624640"/>
            <a:ext cx="1285920" cy="99036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GDPC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it Analysis by aSSociation, Evolution, and Linkag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TASSEL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2320" y="3281400"/>
            <a:ext cx="73072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, Dallas Kroon, Peter Bradbury, Zhiwu Zhang, and Terry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5760" y="620640"/>
            <a:ext cx="822636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Data Mod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DM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2320" y="3435480"/>
            <a:ext cx="73072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allas Kro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ter Bradbur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many other revie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tasse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TASSEL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digree View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beta version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3189240"/>
            <a:ext cx="730728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4840" y="514440"/>
            <a:ext cx="8299440" cy="5857920"/>
            <a:chOff x="474840" y="514440"/>
            <a:chExt cx="8299440" cy="5857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474840" y="514440"/>
              <a:ext cx="82994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474840" y="514440"/>
              <a:ext cx="8299440" cy="585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r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What is GDPDM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tabase schema for holding data collected by QTL and Diversity Studi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bjective of GDPDM schem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ld the basic data behind QTL and diversity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es on taxa, evaluation environments, trait values, genotyping experiments, and genotypic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es not focus on genomic location, QTLs, detailed passport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no dependencies on QTL sch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960" y="257040"/>
            <a:ext cx="27306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2811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DPD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9384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ch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78080" y="263520"/>
            <a:ext cx="519264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02320" y="228600"/>
            <a:ext cx="444168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304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rmpl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as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s link-out to germplasm b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ate groups of tax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s complex genetic pedi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seed lots and ev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2880" y="1325520"/>
            <a:ext cx="4388040" cy="40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4657680"/>
            <a:ext cx="9042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ull range of plo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apture background on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s to genomic ma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40" y="220680"/>
            <a:ext cx="3071880" cy="43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ures wide range of approaches (SNPs, SSR, sequence alignments, isozy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7360" y="509760"/>
            <a:ext cx="6032520" cy="40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0160" y="212760"/>
            <a:ext cx="4402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henotype (trai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or qualitative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ontology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ge of statistics can be recorded (mean, measure, median, std. deviation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52760" y="1025640"/>
            <a:ext cx="45244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94240" y="81000"/>
            <a:ext cx="54846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nviron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field design can be recorded (down to the plant if desir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lanting information, trea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s with locality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s can be grouped into experi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200" y="1147680"/>
            <a:ext cx="3291120" cy="443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0T19:32:50Z</dcterms:created>
  <dc:creator>Terry Casstevens</dc:creator>
  <dc:description/>
  <dc:language>en-US</dc:language>
  <cp:lastModifiedBy>Terry</cp:lastModifiedBy>
  <cp:lastPrinted>1998-07-25T07:41:09Z</cp:lastPrinted>
  <dcterms:modified xsi:type="dcterms:W3CDTF">2006-06-29T03:59:38Z</dcterms:modified>
  <cp:revision>647</cp:revision>
  <dc:subject/>
  <dc:title>Task-Sensitive Cinematography Interfaces for Interactive 3D Learning Environments</dc:title>
</cp:coreProperties>
</file>